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coin.wav" ContentType="audio/x-wav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F86-3F6F-4A9E-8750-549B29EE9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A46-D8AC-4BAD-A5BC-340274D2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50D-892E-42E2-90EF-1E3CE708AD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823-2BA0-4275-97C9-787066F0A252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FD1-E785-4BB2-A2CA-D787C4586B89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E4C-22ED-488D-B9FB-71C6694C6B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51A-7D8F-4BF3-A3F2-D428D663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9CF-38FE-41A9-A5C2-BE6D313A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2897A-1AEC-495D-B615-4B83D06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A13D-8953-4667-8FF5-632A3C33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45932-06A5-4DA5-8EC3-B538924F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546A5-22B9-4C0E-ADCA-9F8E91E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BDD64-8DF5-4BA9-A732-C469F4F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6F16C-5EE7-4E82-8EE7-8C91757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474C-99C0-4506-9312-7EAC2F5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81602-91FF-42D0-82D9-C9B04E3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31657-8257-4995-BFB4-E59CA7A8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CF223-4896-4DD8-ACCB-E41744A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59F-C563-4AA3-8C1B-F5E30230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4F991-7932-4C64-9528-07093CC5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B291A-14E4-4EE9-860D-53EB13E3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05FD1-4253-47DF-A9A0-C45AC961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666D3-0EBD-475D-9FF5-A8572ABA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31514-15FC-43E8-A5B3-C831E06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396A5-E3E9-48A1-8216-C7B8E00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E9EE0-818A-45CC-81A4-80FE1D3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4847E-CE28-4FF0-9DFF-BD7C5D3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2158C-26C4-4A62-A653-AEB2A30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0AD48-A4E2-474E-84FC-42974E2F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0DC-FA17-4B64-8168-5F896553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EA53A-135A-4137-90EF-0FD0B1E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374A-C5FE-444F-9E58-1AAC150B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B7D5-CF8F-47B7-A6DA-E99C7BB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E29EA7-8684-4C24-9FF7-C08B05FC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83E1D7-36AF-43C5-B9F5-100236DA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4031FF-59D7-405C-8F4C-D46718B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E98870-5F14-425D-9847-8098565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ED679B-1EB2-413A-A6C4-A97CF7B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B601-509F-4DD8-96E8-CBC90FD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A6512D-0BF1-43A5-AF03-99908CF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BF3248-0F9C-4ACB-B928-EB77B7C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6544D0-3ABE-443D-9C3A-9A9D3A22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93A6ED-9BBB-4694-935B-B7DB71C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7C60EA-5C6E-4018-A270-7414C58F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6BD303-2D26-4B23-AC50-7434712D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41BCFE-226D-4286-958D-C2F7C8AD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639FF6-2F16-4E98-BD4D-93AA8BD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DC8884-8BE7-4E97-9E0D-41F2692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26540C-FE82-4D05-A99E-6EE59A0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EEA-A107-4026-B959-3F5BD064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6434C1-8F72-4278-9BCE-A5F5DBA8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4C4034-57B2-4F98-87B6-B4654FE0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417504-0ED0-42D7-B04A-A0FBF75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686A9F-0B11-438A-A314-D0D0690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24E534-C8B7-4314-BEE4-DA99C3A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46D714-8456-4EB9-84A8-0581E6F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07FB23-E3C3-4818-BE79-D86D643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A6153A-D9DD-4937-8ED8-460FC455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30FDDF-0E82-40F1-9E7B-5F32DDF4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7B7E64-C719-418A-AAA8-216B3B14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9B4-DA6C-4941-A77D-F88F013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93C455-C477-4631-8361-BCCF93B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C4DF0A-F330-4740-A672-8AE667E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D22656-4A46-4572-89FD-F12248CF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8A6A79-56CC-48E2-ABE7-A020FE5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DE08C2-81B6-42CA-8FE6-F5F415A1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42F071-A9CD-4408-86B5-EC4F2B5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45ACB2-BEAC-4DF3-A760-8900318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64C9D2-8559-42E2-97EB-CD87915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08FFB2-48F0-4FCC-9E90-D2CA3F7A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EE4452-63C2-42BF-B901-B7978B5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C177-1120-4AA2-9374-09837A6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72CB68-1E1C-4618-AC43-1D0E8DDB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F72D08-1E13-4F3B-8B53-AC3577B7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DE7713-6686-470C-8091-E836613E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A970F4-9B1F-4076-B99A-FAD55FA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848298-7377-4525-9400-A223D82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A11E65-047F-4BEF-925A-DA0671F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F63383-8B31-48A5-887A-C9F4329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BE7926-5EB4-4C5A-B98A-3E7EB75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68A856-1738-4843-97F7-B0E3D23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8B1CC1-7407-4A76-8298-930BD2C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188-A65A-4ED9-A1B2-079D1F1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1C63AF-1963-4C2F-B60F-CDAB1951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9F82FD-DED0-4694-931E-71496889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CD678B-ED78-409A-B93C-67CC64E2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5A2-5509-409F-9F61-4DE7E53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2928-6CCE-4374-BC52-384A0E1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39EA-AF8C-497E-ABE7-7B824B2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2A1-FD73-48B3-A6B9-3EAFED1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52C7-6F05-4C60-A33E-80FA9301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260D-6A11-4DF1-856C-F5D6C00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4D5B-8B6A-41EA-B2E3-DC779850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1826-3AF2-49E8-ABA2-1A65005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17A1-F32C-4E01-BE70-0E65B80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B430-CB8B-4721-B515-2CA2C95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9882-B891-466E-8378-5D14C2D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B29-AE08-4D7A-9B48-55A1016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0B5D-EAAA-4A8D-974C-47966FA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7DAD-6F8C-49E5-A9AC-CC29618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05BC-5687-4D03-9CC3-B11DBB6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040F-5F7D-47B1-A24D-256B39D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7AB4-67EC-4734-95CF-3A995D07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466F-BA17-4723-A386-B781D912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4794-52F7-4DDF-B8BD-3FC582BA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8116-B577-4924-A2FE-C6F388D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18BD9-5DFE-4681-B5C2-BAB891B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42DF-73CE-4FA3-A3E4-39E6D458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F30-BF00-420F-B3D2-7C3DBC37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209B-45F7-4E3B-8A7A-F661AF6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5353-1308-4ACB-8E38-6495473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F67C-5D8C-4080-840A-5704A737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444F-3FB6-4282-B4F5-90F8F89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2A86-443B-4DC1-A0BF-2E17A62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FDA6-3526-408F-82B0-2C01BA7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67BF-A676-4628-BB0C-AAD60A4D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B928-5F30-44BC-A7B2-CB7C2F67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3931-735D-47C2-925C-5FF784CD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CD90-5CC8-4007-B757-2EC6E3F8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914-05DA-46E6-9840-3BB7107F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C3F3-56AF-4008-8EE8-7BFD34E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B04D-A34B-45AF-8C24-D9FC1CA0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77BF-2A78-4D2C-8695-6775C57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1282-10C5-4C74-A524-BDDA242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DB987-0679-4E1E-8890-FBA66AD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C69C-C217-45F6-B922-110D3EE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D224-48DA-4CE5-811C-C4A5DD2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3716-1E1C-444D-8FD0-09CC0FE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AA95-D217-43A6-90EF-2136EF2F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34BC-5C35-4E6D-B75B-EBB99D5A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631-C247-4DCF-A8E5-D158CEB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83C8-0CDA-482A-8AD0-6598496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BD4D-3D34-446A-8A0C-23F0B8D1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BE93-A265-4906-8934-D75FB3AE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6E3FF-FAB2-49E9-B6AA-4B9C22B4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6F19-3DAC-4A2F-B389-E853A8F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CB5D-5D32-483F-BB83-32E0B889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166A-94F1-4FDB-9B6B-F67692E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EDAB6-5E23-49C0-93A7-C85D0C2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D641-F216-4BF2-B628-0F7A873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BF75-33FB-46A1-B32F-2452BD2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506-AF37-4C1A-88FB-5D0C74B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1FAC-1B45-49B0-9BFA-1313CE9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26FA-3B19-4048-A1D1-F9F0F75B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5107-E5EA-4470-9431-8ED1B9F5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ADDE9-9336-42C6-8100-46B4901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95AA3-C149-4905-8E22-BDD2A06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4664F-89D3-4925-B2BB-F87242E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5335-44CB-45B4-8D01-EFB044B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471AE-8B29-482A-89AE-1D1D30FE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E1FD-39C4-46AB-B939-57E0422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9DEF-1BF3-4C95-A657-C57C8E3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BB7-84E9-49D8-979A-28F2235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4B95-C2CA-4577-B04E-E89244C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A6120-5E2D-4CA6-8E60-1F914F9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56D2-C3FD-43A2-9407-5E75087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5420-5F59-4DC5-8309-FCAC90FE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6050-275D-4E26-B2BE-3087EE95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DEF29-B402-4686-949F-2B43AC08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BEAB9-D4E9-4E12-8AB2-A4A33596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F39D-F094-4D5F-A096-4953AB8F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5239-1216-4D9F-B579-4226046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86BD-9D08-4FFB-8B00-010DEBD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F87-638F-4384-ADA9-37D8456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E68DA-C9E5-48A3-873C-464925FB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A43C-FE55-4D3D-9D72-490AEDF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59874-D064-40F3-8BE8-7ABDBB9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B139-1003-473E-A011-FA6FCE0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BD50-8605-4898-BB43-5E2E6F9D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A57B-165B-4A45-B4DD-EC2B547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E82C3-9125-4A24-8063-21AD109E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DBCE-31B6-4DF7-8A9F-4463DE26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8AE0-7070-4B12-A527-471F972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7D80A-4C44-446F-ABDF-14885EB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E6D-6790-40E0-95A9-195241A33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4CFF-7D56-435E-8ECE-5D31943192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607-2185-41F9-AAAB-590BA7D3C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E94-D3D2-404A-98BD-F9D3C68BF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9ADB-2E7B-4F15-9F15-C1C6AA9F7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A72-33DD-4215-9DA0-0C4EDDFE3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565-1FD8-42F3-A00C-F216F2249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313-F275-44E1-8351-8B1B0B9CE7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58AA-0965-4A00-A8F6-C2EF87EB98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0793-D587-41E0-8DBE-D3DDC4D750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906-2FB1-4A35-9677-920A7E1BC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0CCD-47A3-4DA0-A6D4-C7DEB7D839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346-C8F0-44F3-BCE4-90DE10C4E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E80-54F4-40A1-81F5-5713F9E8A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auline est ma meilleure amie. Je parle tous les jours à Pauline et souvent je pose beaucoup de questions à Pauline. Je ne mens jamais à Pauline. Souvent le weekend, je rends visite à Pauline et si je ne rends pas visite à Pauline, je téléphone à Pauline tout le temp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our son anniversaire, j’achète un cadeau à Pauline et j’offre ce cadeau à Paulin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i, il y a beaucoup de répétitions du même nom « Pauline »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éviter ces répétitions, on va utiliser u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NOM PERSONNEL 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4572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9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6" name="Picture 9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142640" y="175212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2057400" y="304812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6840" y="1828440"/>
            <a:ext cx="38098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75248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685800" y="281952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 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to 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you (fam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you (for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o him/her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R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the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2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4"/>
          <p:cNvSpPr/>
          <p:nvPr/>
        </p:nvSpPr>
        <p:spPr>
          <a:xfrm>
            <a:off x="3962520" y="2514600"/>
            <a:ext cx="344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give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end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how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peak to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6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4724280" y="281952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o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 a q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le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phone, to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0880" y="1218960"/>
            <a:ext cx="7850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devant un verbe dont la première lettre est une voyelle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4C27D1D6-0BF3-4897-94EE-481C84C572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601640" y="312588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85440" y="1295280"/>
            <a:ext cx="8077320" cy="281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LUI/LEUR se placent devant le verbe conjugué a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440" y="22856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LUI/LEUR 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l’infinitif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3EDD627A-B348-41BE-9C43-3178A38EBB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1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2"/>
          <p:cNvSpPr/>
          <p:nvPr/>
        </p:nvSpPr>
        <p:spPr>
          <a:xfrm>
            <a:off x="838080" y="83808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létez les phrases avec le pronom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’objet indirect approprié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838080" y="2590920"/>
          <a:ext cx="7621560" cy="3641760"/>
        </p:xfrm>
        <a:graphic>
          <a:graphicData uri="http://schemas.openxmlformats.org/drawingml/2006/table">
            <a:tbl>
              <a:tblPr/>
              <a:tblGrid>
                <a:gridCol w="76215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, je 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us 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us ____  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5"/>
          <p:cNvSpPr/>
          <p:nvPr/>
        </p:nvSpPr>
        <p:spPr>
          <a:xfrm>
            <a:off x="1828800" y="25718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57400" y="304812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2057400" y="342900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209680" y="563868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523880" y="42670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v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743200" y="47242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209680" y="51814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905120" y="3962520"/>
            <a:ext cx="76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eu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/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S/EL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9"/>
          <p:cNvSpPr/>
          <p:nvPr/>
        </p:nvSpPr>
        <p:spPr>
          <a:xfrm>
            <a:off x="3124080" y="5638680"/>
            <a:ext cx="6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07258E-006 L -0.00851 0.08992 E">
                                      <p:cBhvr>
                                        <p:cTn id="72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2121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8" descr="j0212957"/>
          <p:cNvPicPr/>
          <p:nvPr/>
        </p:nvPicPr>
        <p:blipFill>
          <a:blip r:embed="rId1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738E-006 L -0.00191 0.07999 E">
                                      <p:cBhvr>
                                        <p:cTn id="90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Administrator</cp:lastModifiedBy>
  <dcterms:modified xsi:type="dcterms:W3CDTF">2011-11-28T18:29:43Z</dcterms:modified>
  <cp:revision>106</cp:revision>
  <dc:subject/>
  <dc:title>Allez, viens! – Level 2</dc:title>
</cp:coreProperties>
</file>